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10DC-1093-401C-9C58-1EF91920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930-4236-4E49-BF44-B1DE304C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F12-941B-465C-93BE-A65A109A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B80-9CA1-4C77-BB75-4BAF5763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C4B-7A79-44DF-B7C8-2267E3CA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78F-4802-4056-A56B-D36AF5EC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042-DA2B-4BAB-A4A1-E67765DD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93C-FFD9-46F4-88E9-8680C1E8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EA56-DCA8-46DF-8076-544170B8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109-BE4E-4ADD-ABA7-09215459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16B-51D1-4917-A652-9FE8A2B3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5B85-C2E2-470E-94D0-77803DF0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A3E5-5EC6-4BFC-B968-2B51C2069C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1BDE-50B8-48D1-AA3B-B6D49A2EE8C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TextBox 5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λυ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428760" y="13572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1143000" y="1928880"/>
            <a:ext cx="4786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μβαν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δασκομ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υ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is thr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l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000680" y="19922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(she, it) is taking (receiv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4000680" y="249228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4000680" y="299232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are 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4000680" y="34923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4013280" y="39672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s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4013280" y="44546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.) un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4033800" y="497988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4027320" y="54547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ουσι(ν)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4038480" y="594216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ομ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174A24AA-811A-44D2-8C07-EA663F01DB6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58" name="TextBox 3"/>
          <p:cNvSpPr/>
          <p:nvPr/>
        </p:nvSpPr>
        <p:spPr>
          <a:xfrm>
            <a:off x="-130320" y="208080"/>
            <a:ext cx="90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εω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428760" y="13572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143000" y="1928880"/>
            <a:ext cx="4786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ειτ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λ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ρουμ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ω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λ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are spe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is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s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4386240" y="19922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l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4386240" y="249228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are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4322880" y="299232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(she, it) is c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4386240" y="349236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keep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4398840" y="39672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s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4398840" y="44546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.) are spea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4419720" y="497988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λου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4413240" y="54547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4424400" y="594216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ει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5FDEF273-553A-47ED-8238-93BC87E45BC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73" name="TextBox 3"/>
          <p:cNvSpPr/>
          <p:nvPr/>
        </p:nvSpPr>
        <p:spPr>
          <a:xfrm>
            <a:off x="-604800" y="227160"/>
            <a:ext cx="9286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428760" y="13572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case and number are the following words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1071720" y="2071800"/>
            <a:ext cx="4786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γελ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ραν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υἱ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ὀχλ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ομ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4000680" y="21207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4000680" y="26208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4000680" y="31212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4000680" y="36212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4013280" y="409572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4013280" y="45831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4033800" y="51084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4027320" y="55832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FCE15F86-7AB8-4790-B134-DE7DAC447DA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87" name="TextBox 3"/>
          <p:cNvSpPr/>
          <p:nvPr/>
        </p:nvSpPr>
        <p:spPr>
          <a:xfrm>
            <a:off x="-282600" y="208080"/>
            <a:ext cx="8628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3 THE NOMINATIVE AND ACCUSATIVE CASES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57120" y="125244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214200" y="1714680"/>
            <a:ext cx="47865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ος διδασκει ὀχλ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ουμεν ἀρτ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υς λυ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υριος λεγει λογ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θρωποι καλου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γελοι τηρουσιν νομ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brother sees a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ople are wat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love a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le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425840" y="177948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rother is teaching crow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4425840" y="22795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seeking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4425840" y="277956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.) are untying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4425840" y="32796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lord says a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4425840" y="37800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ople are cal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4425840" y="42800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s are keeping the la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4425840" y="478008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ος βλεπει οἱκον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4425840" y="52801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θρωποι βλεπουσιν.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4425840" y="577224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ουμεν κοσμον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6"/>
          <p:cNvSpPr/>
          <p:nvPr/>
        </p:nvSpPr>
        <p:spPr>
          <a:xfrm>
            <a:off x="4417920" y="621504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ος ἀγει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EF6561E2-9584-4C33-9AE0-F1BA14B7192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03" name="TextBox 4"/>
          <p:cNvSpPr/>
          <p:nvPr/>
        </p:nvSpPr>
        <p:spPr>
          <a:xfrm>
            <a:off x="-130320" y="208080"/>
            <a:ext cx="906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DEFINITE ARTIC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428760" y="13572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1120" y="1906560"/>
            <a:ext cx="478656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υἱοι ἐχουσιν οἰκ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λειτε τον ἀδελφ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ποιει τους οὐραν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ει ἀγγελος ὀχλ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κυριος ἀκου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seeking the Messiah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ons are speaking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eople love Go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4367160" y="19922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ons have a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4367160" y="25002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are calling a br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4289400" y="29923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is making the heav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4392720" y="34923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 angel is leading crow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4392720" y="39672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ord is list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4392720" y="445464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ουμεν τον Χριστ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4392720" y="497988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ι υἱοι λαλουσιν λογους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4392720" y="545472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ι ανθρωποι φιλου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θεον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0E66CEEE-BFB2-46D5-BF8A-3A420AE87A5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1:05:07Z</dcterms:created>
  <dc:creator>Sarah</dc:creator>
  <dc:description/>
  <dc:language>en-US</dc:language>
  <cp:lastModifiedBy>Sarah</cp:lastModifiedBy>
  <dcterms:modified xsi:type="dcterms:W3CDTF">2008-08-17T12:50:01Z</dcterms:modified>
  <cp:revision>42</cp:revision>
  <dc:subject/>
  <dc:title>Slide 1</dc:title>
</cp:coreProperties>
</file>